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3BD4-3413-4EA7-AA06-6FE41CB68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B070-9B64-4267-931C-7DCFF1610AAD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y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. Pneumoni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in children than in ad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incidence is highest during the cool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st commonly associated with viral respiratory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7A9B-5EF3-4B5A-BF91-A8F0A8B5E51F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on on skin and in oropharyn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.aure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major pathogen for hu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444DF-D5D8-4A8E-9FD3-D9197A072A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3CC0E-0601-448C-804D-BB01D0FB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B0298-88DD-49AB-BD3A-F5F8795A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DD3BC-2F5C-413F-B9CD-373169339D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2A272-4B69-4BA9-9A3E-801F6FDD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F5153-BE6F-4DDA-B3BB-15CC910C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3A4AC-352F-4CF2-8B69-02416595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7AA60-587C-4D8F-A7A8-6AC842D36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CD912-752C-469A-B71F-992A86594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FA307-AA17-4FE1-BC32-7CC75F74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F4F4F-1911-4871-898F-50E93C3C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F955D-1EB9-411B-81CB-E0590A3B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521B-A047-4C80-94DA-0D2E7748F171}" type="slidenum">
              <a:rPr b="0" lang="en-US" sz="1400" spc="-1" strike="noStrike">
                <a:solidFill>
                  <a:srgbClr val="046ca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6480" y="1114200"/>
            <a:ext cx="7793280" cy="46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病原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athogenic cocc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方正舒体"/>
              </a:rPr>
              <a:t>u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)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br>
              <a:rPr sz="4800"/>
            </a:b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yogenic coccus)</a:t>
            </a:r>
            <a:br>
              <a:rPr sz="48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致病性与免疫性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000160" y="2714760"/>
            <a:ext cx="4929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1640" y="10717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致病物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7720" y="1865160"/>
            <a:ext cx="744876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A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局限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皮溶解毒素、溶血素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杀白细胞素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热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28800" y="100008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所致主要疾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57160" y="1928520"/>
            <a:ext cx="74296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脓性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肤软组织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疖、痈、脓疱疮、须疮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、脓毒血症、内脏器官感染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物中毒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烫伤样皮肤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性休克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球菌性肠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9833040" y="1397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86000" y="1143000"/>
            <a:ext cx="64008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链球菌属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42480" y="2133720"/>
            <a:ext cx="720108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广泛分布在自然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动物及人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链球菌EM图"/>
          <p:cNvPicPr/>
          <p:nvPr/>
        </p:nvPicPr>
        <p:blipFill>
          <a:blip r:embed="rId1"/>
          <a:stretch/>
        </p:blipFill>
        <p:spPr>
          <a:xfrm>
            <a:off x="4140360" y="2421000"/>
            <a:ext cx="451800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链球菌G"/>
          <p:cNvPicPr/>
          <p:nvPr/>
        </p:nvPicPr>
        <p:blipFill>
          <a:blip r:embed="rId2"/>
          <a:stretch/>
        </p:blipFill>
        <p:spPr>
          <a:xfrm>
            <a:off x="468360" y="1197000"/>
            <a:ext cx="4114800" cy="3295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0000" y="4509720"/>
            <a:ext cx="1838520" cy="14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71320" y="1989000"/>
            <a:ext cx="800100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物学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卵圆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平板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质抗原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面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---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蛋白抗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青霉素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031840" y="1023840"/>
            <a:ext cx="51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66560" y="85716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链球菌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28800" y="1642680"/>
            <a:ext cx="724824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条件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丙型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致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A-H,K-V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族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化脓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需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兼性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菌群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异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5840" y="1050480"/>
            <a:ext cx="5977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57160" y="1785600"/>
            <a:ext cx="74296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易扩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构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 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敏反应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透明质酸酶、链激酶、链道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热外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streptolysin)---SLO, SLS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5120" y="1050840"/>
            <a:ext cx="398772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42920" y="1844280"/>
            <a:ext cx="5834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或全身化脓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扁桃体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咽峡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鼻窦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中耳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丹毒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淋巴管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痈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坏疽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蜂窝组织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产褥热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败血症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猩红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致热外毒素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链球菌毒性休克综合征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敏反应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急性肾小球肾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风湿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发热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非化脓性全心炎及关节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6040" y="857160"/>
            <a:ext cx="504036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肺炎链球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71320" y="1785960"/>
            <a:ext cx="80010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生物学性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G+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矛头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脐状菌落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甲型链球菌区别要点：发酵菊糖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汁溶菌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：荚膜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特异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84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90080" y="1371240"/>
            <a:ext cx="7053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葡萄球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aphyl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金黄色葡萄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.aure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凝固酶阴性葡萄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球菌属</a:t>
            </a:r>
            <a:r>
              <a:rPr b="1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rept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族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β-hemolytic S</a:t>
            </a:r>
            <a:r>
              <a:rPr b="0" i="1" lang="en-GB" sz="2400" spc="-1" strike="noStrike">
                <a:solidFill>
                  <a:srgbClr val="29297b"/>
                </a:solidFill>
                <a:latin typeface="Arial"/>
                <a:ea typeface="黑体"/>
              </a:rPr>
              <a:t>treptococc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肺炎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trept.pneumoniae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其他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奈瑟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eisseria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淋病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gonorrhoeae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脑膜炎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meningitidis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P75图6-18"/>
          <p:cNvPicPr/>
          <p:nvPr/>
        </p:nvPicPr>
        <p:blipFill>
          <a:blip r:embed="rId1">
            <a:lum bright="36000"/>
          </a:blip>
          <a:srcRect l="0" t="23966" r="0" b="14875"/>
          <a:stretch/>
        </p:blipFill>
        <p:spPr>
          <a:xfrm>
            <a:off x="3348000" y="1123920"/>
            <a:ext cx="5791320" cy="3247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108000" y="1341360"/>
            <a:ext cx="338436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脐状菌落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溶血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95" name="Picture 7" descr="P75图6-19"/>
          <p:cNvPicPr/>
          <p:nvPr/>
        </p:nvPicPr>
        <p:blipFill>
          <a:blip r:embed="rId2">
            <a:lum bright="18000"/>
          </a:blip>
          <a:srcRect l="12733" t="0" r="7271" b="0"/>
          <a:stretch/>
        </p:blipFill>
        <p:spPr>
          <a:xfrm>
            <a:off x="5681520" y="3789360"/>
            <a:ext cx="3462480" cy="3068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脐状菌落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36360" y="2852640"/>
            <a:ext cx="57150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81120" y="907920"/>
            <a:ext cx="601344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857240" y="1785960"/>
            <a:ext cx="5429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炎链球菌溶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咽部局部或全身抵抗力下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叶性肺炎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性肺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支气管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耳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8360" y="979200"/>
            <a:ext cx="73803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奈瑟菌属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Rectangle 1026"/>
          <p:cNvSpPr/>
          <p:nvPr/>
        </p:nvSpPr>
        <p:spPr>
          <a:xfrm>
            <a:off x="396720" y="1773360"/>
            <a:ext cx="42134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淋病奈瑟菌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01" name="Rectangle 1027"/>
          <p:cNvSpPr/>
          <p:nvPr/>
        </p:nvSpPr>
        <p:spPr>
          <a:xfrm>
            <a:off x="857160" y="2500200"/>
            <a:ext cx="742968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一）主要生物学性状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形态染色结构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-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肾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于中性粒细胞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培养特点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热血平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巧克力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落露滴状或半透明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抵抗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弱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3280" y="1082520"/>
            <a:ext cx="6337440" cy="6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50400" y="1928880"/>
            <a:ext cx="719316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原构造与致病物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膜蛋白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损伤中性粒细胞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外膜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63320" y="979560"/>
            <a:ext cx="46278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03280" y="1917720"/>
            <a:ext cx="633744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是唯一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D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尿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副睾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子宫内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阴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输卵管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播散性化脓性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结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脓漏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13120" y="83304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脑膜炎奈瑟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35280" y="1928520"/>
            <a:ext cx="540072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及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多糖抗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流行性脑脊髓膜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脓性感染的微生物学诊断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71360" y="1999800"/>
            <a:ext cx="69865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涂片染色镜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离培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性鉴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体检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ASO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膜炎快速诊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同凝集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敏感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19280" y="83484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42960" y="1714680"/>
            <a:ext cx="785808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-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镜下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，染色性，排列，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S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菌毛，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凝固酶，透明质酸酶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，杀白细胞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ST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肠毒素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红疹毒素，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类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化脓性，毒素性，超敏反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3640" y="1206360"/>
            <a:ext cx="6705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葡萄球菌属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28360" y="2563560"/>
            <a:ext cx="7543800" cy="14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化脓性感染和败血症的最常见病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葡萄球菌EM图"/>
          <p:cNvPicPr/>
          <p:nvPr/>
        </p:nvPicPr>
        <p:blipFill>
          <a:blip r:embed="rId1"/>
          <a:stretch/>
        </p:blipFill>
        <p:spPr>
          <a:xfrm>
            <a:off x="0" y="785880"/>
            <a:ext cx="4343400" cy="3328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3880" y="4572000"/>
            <a:ext cx="302436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葡萄球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" name="Picture 2" descr="葡萄球菌G"/>
          <p:cNvPicPr/>
          <p:nvPr/>
        </p:nvPicPr>
        <p:blipFill>
          <a:blip r:embed="rId2"/>
          <a:stretch/>
        </p:blipFill>
        <p:spPr>
          <a:xfrm>
            <a:off x="4114800" y="642960"/>
            <a:ext cx="5029200" cy="4259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6480" y="1093320"/>
            <a:ext cx="77932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85560" y="1973160"/>
            <a:ext cx="6383160" cy="36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簇状排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金黄色色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多糖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5640" y="114300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分 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14280" y="2090520"/>
            <a:ext cx="671544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  凝固酶阳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表皮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腐生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000080" y="2071800"/>
          <a:ext cx="7215120" cy="4143240"/>
        </p:xfrm>
        <a:graphic>
          <a:graphicData uri="http://schemas.openxmlformats.org/drawingml/2006/table">
            <a:tbl>
              <a:tblPr/>
              <a:tblGrid>
                <a:gridCol w="1801800"/>
                <a:gridCol w="1806480"/>
                <a:gridCol w="1805040"/>
                <a:gridCol w="180180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表皮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腐生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菌落色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黄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\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柠檬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凝固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宋体"/>
                          <a:ea typeface="Tahoma"/>
                        </a:rPr>
                        <a:t>α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溶血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耐热核酸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蛋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解甘露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致病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84"/>
          <p:cNvSpPr/>
          <p:nvPr/>
        </p:nvSpPr>
        <p:spPr>
          <a:xfrm>
            <a:off x="1000080" y="1171440"/>
            <a:ext cx="707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三种葡萄球菌的主要性状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-90360" y="477720"/>
            <a:ext cx="1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5029200"/>
            <a:ext cx="7858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血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Picture 10" descr="图像13-A-1"/>
          <p:cNvPicPr/>
          <p:nvPr/>
        </p:nvPicPr>
        <p:blipFill>
          <a:blip r:embed="rId1"/>
          <a:srcRect l="54460" t="23408" r="1980" b="23028"/>
          <a:stretch/>
        </p:blipFill>
        <p:spPr>
          <a:xfrm>
            <a:off x="4495680" y="380880"/>
            <a:ext cx="4648320" cy="4338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staph"/>
          <p:cNvPicPr/>
          <p:nvPr/>
        </p:nvPicPr>
        <p:blipFill>
          <a:blip r:embed="rId2"/>
          <a:srcRect l="22960" t="16552" r="24145" b="0"/>
          <a:stretch/>
        </p:blipFill>
        <p:spPr>
          <a:xfrm>
            <a:off x="0" y="380880"/>
            <a:ext cx="4452840" cy="4496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图像13-A-2"/>
          <p:cNvPicPr/>
          <p:nvPr/>
        </p:nvPicPr>
        <p:blipFill>
          <a:blip r:embed="rId1">
            <a:lum bright="24000"/>
          </a:blip>
          <a:srcRect l="3333" t="18577" r="4999" b="4288"/>
          <a:stretch/>
        </p:blipFill>
        <p:spPr>
          <a:xfrm>
            <a:off x="714240" y="1143000"/>
            <a:ext cx="7788240" cy="38178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304920" y="507204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营养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正版用户</cp:lastModifiedBy>
  <dcterms:modified xsi:type="dcterms:W3CDTF">2014-05-26T01:36:28Z</dcterms:modified>
  <cp:revision>5</cp:revision>
  <dc:subject/>
  <dc:title>病原性球菌 (pathogenic coccus)  化脓性球菌 (pyogenic coccus)</dc:title>
</cp:coreProperties>
</file>